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905-F877-4C9D-BC9B-F80CC910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5DC-E82A-4D95-B41A-88727761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893-AB1B-4442-92FE-467B58CE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77F-6B4F-4E34-BD79-DFB5B1A7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E2A0-7E5F-42F4-B48F-C14A43AD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8D5C-6707-4987-A303-D81B6983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5F10-D01D-4FD2-B39C-37623EC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4ED6-8F69-4DBB-A391-5BDE9201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5E0E-22DD-4B42-A15B-5E397AB5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1F65-26B9-496F-BD99-FE089B61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8F0F-CF3F-4341-86B6-7E53D59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69C-F702-4096-9A8E-9AB7E593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BA1F-F236-402B-ACCF-A9451852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0150-01D6-4E29-8159-C7877A90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FF84-A0CF-44BB-A3A0-D5FF964F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E230-B7F5-4C65-8046-548234FC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D5D4-991B-42A8-BEF1-EC1958A7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868-D507-4716-8625-095584BE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0DE-E172-456C-9FD3-38FE033D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A76-AB89-42CD-AB2F-701AC4EA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739-8845-45F0-9811-86528481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8BB-E07F-4D75-BB8C-0F2BFF4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12A-5B12-428F-8F10-E5261E81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714-F3A0-4999-9739-E5490E3A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754A-4220-4B6B-ADA8-B0522AE0A35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7020000" y="5734080"/>
            <a:ext cx="169236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F13B-75FA-4DE2-A103-EB8E1C2767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020000" y="5734080"/>
            <a:ext cx="169236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What are the Four P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52480"/>
            <a:ext cx="8280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Purpos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Proces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Principle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Practic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Stages of an individual counselling S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228960" y="1413000"/>
            <a:ext cx="897732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523880"/>
            <a:ext cx="8458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557360"/>
            <a:ext cx="7632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begin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midd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ing what the child wants to explore toda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eedback on issues and experimen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nd an e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492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06064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stablishing safety, trust, rappor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eing the person, not their problem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nding out what’s on the child’s agen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116000" y="386136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5157720"/>
            <a:ext cx="662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viewing learnings and commitments, making plans, deciding when you’ll meet again, anything to be done before meet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Counselling as a Proces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ree (plus 2) stage mod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492280"/>
            <a:ext cx="83055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75000"/>
              </a:lnSpc>
              <a:spcBef>
                <a:spcPts val="1250"/>
              </a:spcBef>
              <a:buClr>
                <a:srgbClr val="eaeae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dentifying and clarifying the problem     (“Telling the story”) and associated feelin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500280"/>
            <a:ext cx="82864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ge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75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ing assets and resources and  preferred/positive scenarios/outcom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ge 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5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rategies and action plans to achieve outcomes/goa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75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773360"/>
            <a:ext cx="806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arming Up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tting the scene, establishing trust, explaining the proces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53737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losure/Completion: Preparing for the counselling contract to end, saying goodbye, referring on if appropri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Components of Stage 1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371600"/>
            <a:ext cx="83055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of the background, the context, the history of the problem may have been gathered from various sourc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is important to understand what the issue is from the child’s perspective and to explore how the child feels about a particular event or situation or its current circum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Components of Stage 2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295280"/>
            <a:ext cx="86868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lp the child to identif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itive experiences in their lif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spects of themselves and others they feel good about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le models and heroes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imes they have succeeded in overcoming a difficulty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ople who will support them no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alistic goals for change and a more positive fu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Components of Stage 3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295280"/>
            <a:ext cx="86868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lp the child to develop action plans and strategies that will help them to cope better with their situation, improve their situation, achieve desired go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pport and monitor the taking of action and changes in behaviou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vide feedback and continuing support for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Facial Expre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295280"/>
            <a:ext cx="86868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rincipl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ildren need to be able to identify, understand, express and normalise what they are feeling after a traumatic ev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fying what makes them happy can help children move into the future with more optim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ages (pictures) are easier for young children to relate to than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Facial Expre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295280"/>
            <a:ext cx="868680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verall Purpos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help children to move on after a traumatic event by enabling them to work through negative feelings,  reconnect with positive feelings and incorporate the positives in thinking about the futu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Using Facial Expressions in a Staged Proc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557360"/>
            <a:ext cx="868680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1 Practic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y out the cards and invite the child to select a card in response to prompt question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are you feeling today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do you feel in school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do you feel at night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do you feel at home?”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Using Facial Expressions in a Staged Proc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55736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1 Purpos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27664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warm up: getting used to handling the materials, learning to recognise and name feeling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3789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lping children understand that they have different emotions in different circumsta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4941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unsellor learns something about the child’s background, circumstances and relationship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Using Facial Expressions in a Staged Proc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557360"/>
            <a:ext cx="868680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2 Practic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y out the cards and invite the child to select a card in response to prompt questions about the problem or traumatic ev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did you feel by the sea before the tsunami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do you feel by the sea now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did you feel during the tsunami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do you feel when you think about Tsunami?”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urpose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67652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484280"/>
            <a:ext cx="86868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4840" indent="-47484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reason why you are doing some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74840" indent="-47484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t is you are trying to achieve through an activity or interven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74840" indent="-47484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intended outcom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74840" indent="-47484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s can also apply to any one stage in a staged activity or process.  Each stage has its purpo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ing Facial Expressions in a Staged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125360"/>
            <a:ext cx="86868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2 Purpos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enable the child to ventilate and understand feelings around a stressful ev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help them understand how painful feelings are due to the impact of the event and are normal (and shared, if done as a group activit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enable the child to make connections between “before” and “after” the traumatic event, which can increase coping capaci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help the counsellor understand the impact on the child and its current state and coping mechanism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ing Facial Expressions in a Staged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197000"/>
            <a:ext cx="86868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3 Practic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y out the cards and invite the child to select a card in response to prompt questions about the futur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How do you feel when you think about your family’s future life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Who do you admire or want to be like when you grow up? How does that person make you feel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What is your ambition for the future?  How do you feel about it?”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ing Facial Expressions in a Staged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1197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3 Purpos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1989000"/>
            <a:ext cx="8353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lping the child to connect to positive thoughts, experiences and resour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couraging the child to think about their future and set positive goal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viding guidelines to children on how to bridge the gap between the present and the fut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Thematic Story Card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484280"/>
            <a:ext cx="86868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rincipl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ldren need to be able to identify, understand, express and normalise what they are feeling after a traumatic even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dentifying what makes them happy can help children move into the future with more optimis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mages (pictures) are easier for young children to relate to than wo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ory cards act as triggers to help them tell their story, telling the story helps make sense of feelings and reac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Thematic Story Card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484280"/>
            <a:ext cx="86868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Overall Purpos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help children to move on after a traumatic event by enabling them to work through negative feelings,  reconnect with positive feelings and incorporate the positives in thinking about the futu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Using Story Cards in a Staged Proc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557360"/>
            <a:ext cx="8686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1 Practic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y out the cards and invite the child to select a card that reminds them of an event from their own life and tell the story of it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Using Story Cards in a Staged Proc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55736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1 Purpos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2276640"/>
            <a:ext cx="820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warm up: getting used to handling the materials, practice in relating the cards to a story of their ow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etting accustomed to sharing a story in a grou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40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lead in to sharing about more intense and difficult experi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9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unsellor learns something about the child’s background, circumstances and relationships or a significant event in the child’s lif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Using Story Cards in a Staged Proc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1557360"/>
            <a:ext cx="86868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2 Practic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y out the cards and invite the child to select a card in response to prompt questions about the problem or traumatic ev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What happened to you at the time of the tsunami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How did you feel during the tsunami?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   “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What did you see happen during the tsunami?”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ing Story Cards in a Staged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125360"/>
            <a:ext cx="86868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2 Purpos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enable the child to ventilate and understand feelings around a stressful ev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help them understand how painful feelings are due to the impact of the event and are normal (and shared, if done as a group activit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help the counsellor understand the impact on the child and its current state and coping mechanism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ing Story Cards in a Staged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197000"/>
            <a:ext cx="86868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3 Practic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y out the cards and invite the child to select a card that reminds them of the problems they have noticed due to the traumatic event and discuss it with the grou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acilitated discussion on ways they and adults have dealt with proble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Proces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5714640"/>
            <a:ext cx="849636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3716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4840" indent="-474840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thing that takes place over time, often with clearly different stages throughout the proc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4099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structured movement from a to b to c to d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8006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movement in a direction that implies something different happens at various stag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ing Story Cards in a Staged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125360"/>
            <a:ext cx="86868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3 Purpos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enable chidren to ventilate about their lo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help the child to understand that destruction and loss inevitably accompanies such ev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help the child recognise that they are not alone in their losses and to begin to accept the grief and lo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help them identify positive ways in which problems and losses have been faced and dealt wi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help the child gain some mastery in understanding the issues and in self understanding so that they can move away from the victim posi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ing Story Cards in a Staged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197000"/>
            <a:ext cx="86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4 Practic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y out the cards and invite the child to select a card that reminds them of something good that has happened since the Tsunami and share their stor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ing Story Cards in a Staged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60020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1197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ge 4 Purpos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1989000"/>
            <a:ext cx="8353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lping the child to connect to positive thoughts, experiences and resour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lping the child to recognise that not all is lost, that good things still happen, that there is hope and to adopt a positive mind set (optimis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viding guidelines to children on how to bridge the gap between the present and the fut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Principl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34136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4840" indent="-47484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derlying natural “rules” or ‘laws” that explain why or how something works, like mathematical principles or the laws of physic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34936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inciples are “Givens”  like the law of gravity.  They are ‘what is so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141720"/>
            <a:ext cx="7345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at we believe to be true, a “general rule” that   seems to work in practice and which we therefore use to underpin our practice e.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eople need praise and recognition in order to flourish”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“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eople feel better when they feel they have some control over their problems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Practi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371600"/>
            <a:ext cx="83055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is is what you actually do, the activities and interventions you undertake in a sess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ood practice  is underpinned by your understanding of the principles and processes at play and fits the purposes you are trying to achiev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Principles of Counsellin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principles and beliefs you work from will inform your purpose and your choice of counselling approaches,interventions, and tool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495680"/>
            <a:ext cx="769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419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Spare the rod, spoil the child”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Principles of Counselling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371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locked (repressed, suppressed, unexpressed) emotions can delay recovery from a cri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ople feel better when they feel heard and understoo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3581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problem shared is a problem halv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4267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4840" indent="-4748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ople have their own inner wisdom and resources for healing and for self-develop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334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4840" indent="-47484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y may need someone else’s help to find those resour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Principles of Counselling Children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75248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t is important that children have opportunities to express themselves in a safe and accepting environ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971800"/>
            <a:ext cx="8305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ldren’s verbal and reasoning ability is not the same as ad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ldren learn, develop and communicate through pl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87692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ldren are more kinaesthetic than intellectual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y relate to physical sensations, touch, shapes, colour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7242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The Four Ps Model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676520"/>
            <a:ext cx="74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33526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Practic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57913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nci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76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c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1676520"/>
            <a:ext cx="4648320" cy="4038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3352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676160" y="3809520"/>
            <a:ext cx="1447560" cy="213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19320" y="1523520"/>
            <a:ext cx="2133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1447920"/>
            <a:ext cx="1905120" cy="190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486040" y="365760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2767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Resul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ff Handbbook 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3:48:23Z</dcterms:created>
  <dc:creator>Gail Taylor</dc:creator>
  <dc:description/>
  <dc:language>en-US</dc:language>
  <cp:lastModifiedBy>saustin</cp:lastModifiedBy>
  <dcterms:modified xsi:type="dcterms:W3CDTF">2009-04-30T22:24:43Z</dcterms:modified>
  <cp:revision>13</cp:revision>
  <dc:subject/>
  <dc:title>Today’s Purpose</dc:title>
</cp:coreProperties>
</file>